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02F2-7F69-486D-88A2-0B2D1D43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47B3-4BCE-48B5-A719-F812E23E7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7C98-BFF9-4906-AE2A-EF99ED03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FE40-B285-439B-AA13-25AC8EABF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299B-58CB-4EB5-89F0-00D53BF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E679-012C-4400-8FBD-8FE1805E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4007-42C5-45FA-B334-6CB983E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1AB-5C7B-4477-9E4F-21493B13B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8226-F982-4BD5-9258-51D666CE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57B-ABF4-4AB2-A5AF-13892567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368C-83E3-4AC5-8762-E1C2A954D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955B-07CE-4835-950A-9A82C90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1c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888D-E1C9-48D3-8C4D-AA9FE00E41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9oXtd_XRb3U" TargetMode="External"/><Relationship Id="rId2" Type="http://schemas.openxmlformats.org/officeDocument/2006/relationships/hyperlink" Target="http://www.youtube.com/watch?v=9oXtd_XRb3U" TargetMode="External"/><Relationship Id="rId3" Type="http://schemas.openxmlformats.org/officeDocument/2006/relationships/hyperlink" Target="http://www.youtube.com/watch?v=9oXtd_XRb3U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062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24360" y="333360"/>
            <a:ext cx="5003640" cy="936720"/>
          </a:xfrm>
          <a:prstGeom prst="wedgeRectCallout">
            <a:avLst>
              <a:gd name="adj1" fmla="val -54504"/>
              <a:gd name="adj2" fmla="val 14152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I have a dream…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492280"/>
            <a:ext cx="9577440" cy="32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7200" spc="-1" strike="noStrike">
                <a:solidFill>
                  <a:srgbClr val="ff0000"/>
                </a:solidFill>
                <a:latin typeface="Arial"/>
              </a:rPr>
              <a:t>Martin Luther King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ff0000"/>
                </a:solidFill>
                <a:latin typeface="Arial"/>
              </a:rPr>
              <a:t>a prophet of the 20th Century</a:t>
            </a:r>
            <a:r>
              <a:rPr b="1" lang="de-DE" sz="8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6756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nviolent resistance isn’t a method for cow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protest by boycott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don’t hate your ri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you should destroy  bad ac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wever not the bad per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equently life after the new testa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ternative to war, ruination, hate or prejudic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2.2 His dream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same righ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gardless from the skin colour or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ugust 1963 speech in front of 250 000 peopl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r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elf-confidenc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upport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ivil Rights M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GB" sz="2000" spc="-1" strike="noStrike" u="sng">
                <a:solidFill>
                  <a:srgbClr val="ffcc66"/>
                </a:solidFill>
                <a:uFillTx/>
                <a:latin typeface="Arial"/>
                <a:hlinkClick r:id="rId3"/>
              </a:rPr>
              <a:t>=9oXtd_XRb3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3. The American Civil Rights Movement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14488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qual treatment of rac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ame laws and human right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n-violence between black and white peopl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4. Assassination 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urvived three bomb attac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as arrested 29 times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4th of April, 1968 he was shot dead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5. The results of his work</a:t>
            </a:r>
            <a:br>
              <a:rPr sz="3600"/>
            </a:br>
            <a:r>
              <a:rPr b="0" lang="en-GB" sz="3400" spc="-1" strike="noStrike">
                <a:solidFill>
                  <a:srgbClr val="d1d1cb"/>
                </a:solidFill>
                <a:latin typeface="Arial"/>
              </a:rPr>
              <a:t>5.1 Awards and recognitions</a:t>
            </a:r>
            <a:endParaRPr b="0" lang="en-US" sz="3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obel Peace Prize in 1964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Presidential Medal of freedom”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in 197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ird Monday in January is call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artin Luther King Memorial Da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5.2 What’s with his dream now?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ck mayors in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0 citi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lack American president Barack Ob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racism is still a part of daily life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Thank you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0000"/>
                </a:solidFill>
                <a:latin typeface="Arial"/>
              </a:rPr>
              <a:t>for listening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d1d1cb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842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ad conditions for Blacks in Ame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life of Martin Luther 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is dr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merican Civil Right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ssassin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results of hi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wards and recog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hat’s with his dream now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-762120" algn="ctr">
              <a:buClr>
                <a:srgbClr val="d1d1c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Bad conditions for Blacks in America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908000" y="898560"/>
            <a:ext cx="4502160" cy="59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convinced 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Grace of God was shown in economic succes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1. Bad conditions for Blacks in America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worked 15 hours a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ostly 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arms, rice- tobacco or sugar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ne pla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lavery was banned in 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186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acial segregatio i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ublic institu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isadvantage and discri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8760" cy="68421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12400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Martin Luther Kin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321300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d1d1cb"/>
                </a:solidFill>
                <a:latin typeface="Arial"/>
              </a:rPr>
              <a:t>2. The life of Martin Luther King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orn on 15th of January, 1929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Michael King“ to „Martin Luther King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honour of the German Protestant leader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rtin Luther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study of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ociolog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ology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27280" y="1152360"/>
            <a:ext cx="380052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476280"/>
            <a:ext cx="475308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 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adjust to the bad conditions of lawlessness slave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could seek after their rights with vio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Afro- Americans can decided to a nonviolent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250" autoRev="1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d1d1cb"/>
                </a:solidFill>
                <a:latin typeface="Arial"/>
              </a:rPr>
              <a:t>2.1 His method</a:t>
            </a:r>
            <a:endParaRPr b="0" lang="en-US" sz="3600" spc="-1" strike="noStrike">
              <a:solidFill>
                <a:srgbClr val="d1d1c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osa Pa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efuse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give up her se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Boycott the Montgomery bus li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64000" y="1268280"/>
            <a:ext cx="352908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5:41:25Z</dcterms:created>
  <dc:creator> </dc:creator>
  <dc:description/>
  <dc:language>en-US</dc:language>
  <cp:lastModifiedBy> </cp:lastModifiedBy>
  <dcterms:modified xsi:type="dcterms:W3CDTF">2010-03-08T20:19:55Z</dcterms:modified>
  <cp:revision>18</cp:revision>
  <dc:subject/>
  <dc:title>Folie 1</dc:title>
</cp:coreProperties>
</file>